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F4D-08E2-43AF-B5DD-D7ABB449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1FB-B575-4BB9-AD21-0C32FA84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A95-AD6F-428C-A506-45E9D4F5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352-1C91-4A09-A5FD-DB71A4F9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C989-BA3B-48FB-9774-3A3E6157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5AD8-E113-4D90-AD3E-3C1A0D69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7765-6E5D-449A-A7E7-3B369A46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111C-8A67-4DBC-8A60-A408EDE6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1895-4F48-4F95-9DD1-C505956C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A51A-E104-43CE-B805-B33B4E91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DB61-7B8E-4224-B27D-E61D019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9EC-4124-429C-8CEB-3110E50E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4C1C-A5B2-44C6-9657-DA6E55DD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9668-A057-48EF-ABCA-6A651DC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7276-ACB7-4B44-955E-9671164D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F6E-26D4-41D3-908D-DE5C1BD5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BA9B-8D3D-41EC-AE19-8651815B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AF8B-7A5E-422C-BC14-98258D2B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7DA1-0154-429D-A82A-12839F58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1FC3-4CB1-4B9F-910E-C38FEE64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C1C5-6F42-4E40-A205-C731137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76F6-9BC5-4B45-9DF8-C3EF2C13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5FC-7588-498A-87BE-BCE10A77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1AB4-6D72-4632-B74B-CCE4E5C1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36E6-71A0-4ED3-A89A-F752319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62C8-DC39-45C1-B6F0-BFA1EB6A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8DDD-8761-4AEE-8794-305191DB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47A6-62A2-4E92-89AA-AAAA8225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84640-AFE2-4EAE-BA8A-5472D1BA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026B-1C4F-4D92-A529-3635406F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E6AF-748A-4378-B762-F29AD084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85C7-A736-4CCE-AA2E-CA46DF9E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2B7F-17E5-4934-8138-46C3F1B9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391-30CA-49B1-99DF-08CD216C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FFB9-9713-4099-81C0-201876D5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8639-F5F1-4EDD-84DA-1C272EC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83B7-B8F1-48F0-B4D5-A172EBFD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C2356-B2D5-4FF8-AAC3-3927EB6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12CF-81A3-4CF4-87A8-32C43D70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1532-2E1A-4C14-9307-FE89A98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528C-DF3C-4D8E-B50F-9BC3CEA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F065-A052-4C33-A527-0A28844D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E8D8-C476-4638-9252-E90E06B8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B793-2620-42FF-9CBB-DAE6A5E0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4F4-9F6D-462D-9817-5CA485D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33E8B-AC37-4356-B861-8B865FE8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35889-7954-4C8A-9A5F-B2144EF7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8DAC-5336-4944-BA66-FA489D83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226CC-955F-41AA-AF6C-0281838B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17B7-47D0-44BC-8E76-E77FAFFB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CE4F-2608-462E-B28B-21C935E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DD485-2D9C-40C9-B8E8-1285A239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B649C-B147-4784-8FE2-1D804BE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2A0DE-3DAE-4800-A446-DC1BF8CC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EA87C-5804-4833-94AD-75064493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D68-B9E5-457E-AB81-0A391EBA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97A02-99AB-419D-BD17-AC21BD41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795-02F3-4BA2-8504-48DE240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9AD-BA3E-41CE-8405-3E92CE7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B55-5860-452E-820D-80A91742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6C82-F76E-4B3D-8540-9846CB11CD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C905-A018-49F0-A958-D618F78B49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E6EA-B2C6-4738-988C-4B079A515EA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A450-4EFB-4932-A3AE-D3974872DF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9DB4-D10B-418C-825D-05AA95F13A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e5dc"/>
                </a:solidFill>
                <a:latin typeface="Perpetua"/>
              </a:rPr>
              <a:t>Module Created 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e5dc"/>
                </a:solidFill>
                <a:latin typeface="Perpetua"/>
              </a:rPr>
              <a:t>b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e5dc"/>
                </a:solidFill>
                <a:latin typeface="Perpetua"/>
              </a:rPr>
              <a:t>Shameka L. Montgomer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FLIP your Classroom” with Pocket Video Cameras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pic>
        <p:nvPicPr>
          <p:cNvPr id="230" name="Picture 4" descr="tieicon.jpg"/>
          <p:cNvPicPr/>
          <p:nvPr/>
        </p:nvPicPr>
        <p:blipFill>
          <a:blip r:embed="rId1"/>
          <a:stretch/>
        </p:blipFill>
        <p:spPr>
          <a:xfrm>
            <a:off x="3124080" y="4114800"/>
            <a:ext cx="23623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5dc"/>
                </a:solidFill>
                <a:latin typeface="Franklin Gothic Book"/>
              </a:rPr>
              <a:t>What’s the Buzz???</a:t>
            </a:r>
            <a:endParaRPr b="0" lang="en-US" sz="28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erpetua"/>
              </a:rPr>
              <a:t>Celebrities, Reporters, Kids, Teachers……Everyone is hooked</a:t>
            </a:r>
            <a:endParaRPr b="0" lang="en-US" sz="16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33" name="Picture 8" descr="flip-camera.jpg"/>
          <p:cNvPicPr/>
          <p:nvPr/>
        </p:nvPicPr>
        <p:blipFill>
          <a:blip r:embed="rId1"/>
          <a:stretch/>
        </p:blipFill>
        <p:spPr>
          <a:xfrm>
            <a:off x="7162920" y="4952880"/>
            <a:ext cx="1523880" cy="1739880"/>
          </a:xfrm>
          <a:prstGeom prst="rect">
            <a:avLst/>
          </a:prstGeom>
          <a:ln w="0">
            <a:noFill/>
          </a:ln>
        </p:spPr>
      </p:pic>
      <p:pic>
        <p:nvPicPr>
          <p:cNvPr id="234" name="What's the Buzz.wmv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Attributes of Pocket Video Cameras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1981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Easy to operate, durable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Small enough to fit in your pocket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Cost under $200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Records at least 60 minutes of digital video footage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Easy to download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Has software available for editing and sharing video footage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Flip-out USB plug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Removable AA batteries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37" name="Picture 4" descr="flip-camera.jpg"/>
          <p:cNvPicPr/>
          <p:nvPr/>
        </p:nvPicPr>
        <p:blipFill>
          <a:blip r:embed="rId1"/>
          <a:stretch/>
        </p:blipFill>
        <p:spPr>
          <a:xfrm>
            <a:off x="3962520" y="1371600"/>
            <a:ext cx="1879560" cy="2146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Kodak-Zi8-Pocket-Video-Camera-black1.jpg"/>
          <p:cNvPicPr/>
          <p:nvPr/>
        </p:nvPicPr>
        <p:blipFill>
          <a:blip r:embed="rId2"/>
          <a:stretch/>
        </p:blipFill>
        <p:spPr>
          <a:xfrm>
            <a:off x="2895480" y="3581280"/>
            <a:ext cx="2455920" cy="2667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rca-small-wonder-camcorders.jpg"/>
          <p:cNvPicPr/>
          <p:nvPr/>
        </p:nvPicPr>
        <p:blipFill>
          <a:blip r:embed="rId3"/>
          <a:stretch/>
        </p:blipFill>
        <p:spPr>
          <a:xfrm>
            <a:off x="5943600" y="3581280"/>
            <a:ext cx="2514600" cy="2714760"/>
          </a:xfrm>
          <a:prstGeom prst="rect">
            <a:avLst/>
          </a:prstGeom>
          <a:ln w="0">
            <a:noFill/>
          </a:ln>
        </p:spPr>
      </p:pic>
      <p:sp>
        <p:nvSpPr>
          <p:cNvPr id="240" name="Left Arrow 7"/>
          <p:cNvSpPr/>
          <p:nvPr/>
        </p:nvSpPr>
        <p:spPr>
          <a:xfrm>
            <a:off x="5867280" y="2209680"/>
            <a:ext cx="685800" cy="38124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6629400" y="21337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Most Popul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e5dc"/>
                </a:solidFill>
                <a:latin typeface="Franklin Gothic Book"/>
              </a:rPr>
              <a:t>Advantages of the Camera in the Classroom</a:t>
            </a:r>
            <a:endParaRPr b="0" lang="en-US" sz="36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reative outlet for student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tudents can express themselves by creating projects, ads, movies, trailers, etc…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Liven up a classroom and make learning accessible to students in a fun and creative way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Great for use across all subject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Ideas for the Classroom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lip Camera--Uses in the Classroom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trategies for Increasing Student Achievement with a Flip Camera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43 Interesting Ways* to use your Pocket Video Camera in the Classroom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Best Resources Sites for Using Flip Camera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46:54Z</dcterms:created>
  <dc:creator>shameka.montgomery</dc:creator>
  <dc:description/>
  <dc:language>en-US</dc:language>
  <cp:lastModifiedBy>Customer</cp:lastModifiedBy>
  <dcterms:modified xsi:type="dcterms:W3CDTF">2010-06-28T20:20:29Z</dcterms:modified>
  <cp:revision>41</cp:revision>
  <dc:subject/>
  <dc:title>“FLIP your Classroom” with Pocket Video Cameras</dc:title>
</cp:coreProperties>
</file>